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9E7-9471-4261-A8A7-6E928529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90A-2FF1-4DB9-817B-C419C8B4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2B0-6499-4720-9BC4-7C099817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B83-4BEB-45A3-81F3-978FF19F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4AB2-13AE-4297-B04D-35C901E2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33E5-0917-4CB3-A5D5-62F48014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0C2-2865-41AE-9C31-2DB9B89B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7FB-64B8-47B7-86BD-F95A77B7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A42-249A-4870-92A9-12E18BE9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854-4045-42A7-A8B1-FB1E4F25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0D8-03BB-40D8-9522-C5572114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D44B-529F-4FB2-AD1E-B92959E2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3D1F-1C88-45BB-99A8-AD35D8BF5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Pj043055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 rot="20020800">
            <a:off x="228600" y="1371600"/>
            <a:ext cx="49100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ini Skateboards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752480" y="3886200"/>
            <a:ext cx="5143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00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b0000"/>
                  </a:gs>
                  <a:gs pos="100000">
                    <a:srgbClr val="8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3200400" y="342900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00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 Black"/>
              </a:rPr>
              <a:t>ONLY $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b0000"/>
                  </a:gs>
                  <a:gs pos="100000">
                    <a:srgbClr val="8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3733920" y="4724280"/>
            <a:ext cx="51051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00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Arial Black"/>
              </a:rPr>
              <a:t>$2 for designs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b0000"/>
                  </a:gs>
                  <a:gs pos="100000">
                    <a:srgbClr val="8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5:42:30Z</dcterms:created>
  <dc:creator>SAISD</dc:creator>
  <dc:description/>
  <dc:language>en-US</dc:language>
  <cp:lastModifiedBy>TILT</cp:lastModifiedBy>
  <dcterms:modified xsi:type="dcterms:W3CDTF">2010-04-15T15:56:41Z</dcterms:modified>
  <cp:revision>4</cp:revision>
  <dc:subject/>
  <dc:title>Slide 1</dc:title>
</cp:coreProperties>
</file>